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8C4-E28B-41C5-8288-514DB8AF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1EB-4E86-4FCA-9CA5-C0E0164E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0DF-9799-42DC-AFBF-8105CFCE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E54-086B-4ACC-B1D4-34BBA5C5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70C-40D8-4978-9BFE-1B9435C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AA0-808C-434B-ACCB-D6643CEE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1B1-8037-405C-96AA-FDF443B9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F8C-8DBB-41B5-9A96-23BBA34F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DBA-E49D-4E78-BE3C-E2C66B96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ACD-6452-4F4F-85EA-041EC4D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F73-F70B-4763-8647-A43E915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E4C-6280-4406-84AC-498BFAA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8F87-D7CE-4EE0-80FC-843502EA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ubrey Strickling, Anna Kane, Hannah Rowe, and Becca Du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L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will do the outside work like fishing, hunting, and other outdoor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s did the inside activities like cooking, sewing, cleaning, and the dis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were severely punished if they disob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es had to plant their own crops, raise their own meat, and build and take care of their own 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4:56:06Z</dcterms:created>
  <dc:creator>jhlaptop</dc:creator>
  <dc:description/>
  <dc:language>en-US</dc:language>
  <cp:lastModifiedBy>GACS</cp:lastModifiedBy>
  <dcterms:modified xsi:type="dcterms:W3CDTF">2008-10-10T14:37:24Z</dcterms:modified>
  <cp:revision>2</cp:revision>
  <dc:subject/>
  <dc:title>Slide 1</dc:title>
</cp:coreProperties>
</file>